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5BBED-28CA-4222-AC64-907A1B4393E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754DF-40D5-4410-9CDC-49AF9F451B7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1C5FB-6C97-49F7-A28C-8C3990F4FC6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43985-0990-40D3-B7FB-A451F87ABA3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80827-24F1-4174-B57A-7FEA218725A6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71B67-E4E1-40BB-BF8F-A0AD7D66A21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CB99F-C97F-474C-AEE6-FA5AE5375E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6B1EF-46B5-4A20-815E-7F16300E42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83045-2DE2-45D7-8FD0-13B0F90833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2AA61-D3A1-436B-8301-DCE861F883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AECA7-EA21-44AE-A11C-A98961E101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E18F8-B3BB-4C07-B085-3DB5CE73A48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1000"/>
          </a:bodyPr>
          <a:p>
            <a:pPr marL="566280" indent="-40428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878040" indent="-40428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90160" indent="-40428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513800" indent="-40392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825920" indent="-40428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825920" indent="-40428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825920" indent="-40428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88840" y="167760"/>
            <a:ext cx="7366320" cy="1731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888480" y="1899720"/>
            <a:ext cx="3543480" cy="4110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3000"/>
          </a:bodyPr>
          <a:p>
            <a:pPr marL="467280" indent="-3196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52040" indent="-32004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36800" indent="-3196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332000" indent="-3196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4" marL="1616760" indent="-32004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5" marL="1616760" indent="-32004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6" marL="1616760" indent="-32004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88840" y="126720"/>
            <a:ext cx="7366320" cy="1816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88840" y="1943280"/>
            <a:ext cx="7366320" cy="491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563400" indent="-38556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906480" indent="-3859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249200" indent="-38556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604880" indent="-38556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4" marL="1947960" indent="-3859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5" marL="1947960" indent="-3859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6" marL="1947960" indent="-3859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88840" y="167760"/>
            <a:ext cx="7366320" cy="1731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5460840" y="1899720"/>
            <a:ext cx="2794320" cy="4110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0000"/>
          </a:bodyPr>
          <a:p>
            <a:pPr marL="394200" indent="-26964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34320" indent="-27000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874440" indent="-26964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123200" indent="-26964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4" marL="1363320" indent="-27000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5" marL="1363320" indent="-27000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6" marL="1363320" indent="-27000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88840" y="167760"/>
            <a:ext cx="7366320" cy="1731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888480" y="1899720"/>
            <a:ext cx="3543480" cy="4110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3000"/>
          </a:bodyPr>
          <a:p>
            <a:pPr marL="467280" indent="-3196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52040" indent="-32004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36800" indent="-3196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332000" indent="-3196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4" marL="1616760" indent="-32004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5" marL="1616760" indent="-32004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6" marL="1616760" indent="-32004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3036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3032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8752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94472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94472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94472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7464240" y="6392520"/>
            <a:ext cx="3063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7739-B73A-46B9-947E-D0C4C923CCDB}" type="slidenum">
              <a:rPr b="0" lang="en-US" sz="1200" spc="-1" strike="noStrike">
                <a:solidFill>
                  <a:srgbClr val="898989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88840" y="167760"/>
            <a:ext cx="7366320" cy="1731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888840" y="1899720"/>
            <a:ext cx="7366320" cy="4110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6000"/>
          </a:bodyPr>
          <a:p>
            <a:pPr marL="597240" indent="-426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26280" indent="-426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255680" indent="-426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596960" indent="-42624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926360" indent="-426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926360" indent="-426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926360" indent="-426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88840" y="2095200"/>
            <a:ext cx="7366320" cy="267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888840" y="3530160"/>
            <a:ext cx="7366320" cy="2514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888840" y="0"/>
            <a:ext cx="7366320" cy="347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88840" y="5181480"/>
            <a:ext cx="7366320" cy="1206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88840" y="5181480"/>
            <a:ext cx="7366320" cy="1206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444240" y="3378240"/>
            <a:ext cx="4127400" cy="347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444240" y="0"/>
            <a:ext cx="4127400" cy="3314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444240" y="3378240"/>
            <a:ext cx="4127400" cy="347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title"/>
          </p:nvPr>
        </p:nvSpPr>
        <p:spPr>
          <a:xfrm>
            <a:off x="444240" y="0"/>
            <a:ext cx="4127400" cy="3314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God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Kiowa_people" TargetMode="External"/><Relationship Id="rId2" Type="http://schemas.openxmlformats.org/officeDocument/2006/relationships/hyperlink" Target="http://en.wikipedia.org/wiki/Kiowa_people" TargetMode="External"/><Relationship Id="rId3" Type="http://schemas.openxmlformats.org/officeDocument/2006/relationships/hyperlink" Target="http://www.bigorrin.org/kiowa_kids.htm" TargetMode="External"/><Relationship Id="rId4" Type="http://schemas.openxmlformats.org/officeDocument/2006/relationships/hyperlink" Target="http://www.bigorrin.org/kiowa_kids.htm" TargetMode="External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76560" cy="487692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3968640" y="0"/>
            <a:ext cx="5219640" cy="351792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6742080" y="3511440"/>
            <a:ext cx="2656080" cy="402588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38160" rIns="43200" tIns="38160" bIns="38160" anchor="ctr">
            <a:normAutofit/>
          </a:bodyPr>
          <a:p>
            <a:pPr marL="39600" indent="0" algn="ctr">
              <a:lnSpc>
                <a:spcPct val="1000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Gill Sans"/>
              </a:rPr>
              <a:t>By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00" indent="0" algn="ctr">
              <a:lnSpc>
                <a:spcPct val="1000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Gill Sans"/>
                <a:ea typeface="ヒラギノ角ゴ ProN W3"/>
              </a:rPr>
              <a:t>	</a:t>
            </a:r>
            <a:r>
              <a:rPr b="0" lang="en-US" sz="2800" spc="-1" strike="noStrike">
                <a:solidFill>
                  <a:srgbClr val="898989"/>
                </a:solidFill>
                <a:latin typeface="Gill Sans"/>
              </a:rPr>
              <a:t>Claire la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"/>
          <p:cNvSpPr/>
          <p:nvPr/>
        </p:nvSpPr>
        <p:spPr>
          <a:xfrm>
            <a:off x="1998720" y="3073320"/>
            <a:ext cx="37972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The Kiowa Peopl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4"/>
          <a:stretch/>
        </p:blipFill>
        <p:spPr>
          <a:xfrm>
            <a:off x="0" y="4876920"/>
            <a:ext cx="1574640" cy="216216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5"/>
          <a:stretch/>
        </p:blipFill>
        <p:spPr>
          <a:xfrm>
            <a:off x="5154480" y="3517920"/>
            <a:ext cx="15894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ere they lived and were they live today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Bold"/>
                <a:ea typeface="Verdana Bold"/>
              </a:rPr>
              <a:t>the Kiowa lived in and around the Texas panhandl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Kiowa tribe was forced to move to a reservation in Oklahoma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Kiowa Indians lived in large buffalo-hide tents called teepe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4" name=""/>
          <p:cNvSpPr/>
          <p:nvPr/>
        </p:nvSpPr>
        <p:spPr>
          <a:xfrm>
            <a:off x="7546320" y="6447240"/>
            <a:ext cx="16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Lucida Grande"/>
                <a:ea typeface="Lucida Grande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317520" y="4076640"/>
            <a:ext cx="2882880" cy="281952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4356000" y="4521240"/>
            <a:ext cx="4064040" cy="199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8679E-0057-4E42-8BA1-B8383D6891E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they ate and how they got i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e Kiowa were hunters and gather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ntelope, deer, wild berries, wild fruit, turkeys and wild other animals is what they at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5854680" y="4533840"/>
            <a:ext cx="3289320" cy="246384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2"/>
          <a:stretch/>
        </p:blipFill>
        <p:spPr>
          <a:xfrm>
            <a:off x="2324160" y="4533840"/>
            <a:ext cx="3530520" cy="229860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3"/>
          <a:stretch/>
        </p:blipFill>
        <p:spPr>
          <a:xfrm>
            <a:off x="0" y="4533840"/>
            <a:ext cx="2070000" cy="203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they believed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Bold"/>
                <a:ea typeface="Verdana Bold"/>
              </a:rPr>
              <a:t>elk teeth and skin was believed to be powerful love magic a woman wearing elk skin and teeth was irresistible to men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Bold"/>
                <a:ea typeface="Verdana Bold"/>
              </a:rPr>
              <a:t>they also may believe in jesu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4" name=""/>
          <p:cNvSpPr/>
          <p:nvPr/>
        </p:nvSpPr>
        <p:spPr>
          <a:xfrm>
            <a:off x="7546320" y="6447240"/>
            <a:ext cx="16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Lucida Grande"/>
                <a:ea typeface="Lucida Grande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3235320" y="3225960"/>
            <a:ext cx="2867040" cy="421632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2"/>
          <a:stretch/>
        </p:blipFill>
        <p:spPr>
          <a:xfrm>
            <a:off x="6107040" y="2968560"/>
            <a:ext cx="2871720" cy="384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B959E-F623-4E96-B168-89F8B87E481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o they worshiped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43080" y="1422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iowas practiced peyotism peyotism involves using a spinless cactus called peyote it was used to talk to the spirit world Peyote personified as a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g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lled Mescalito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177840" y="2832120"/>
            <a:ext cx="4397400" cy="384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3BC67-05C4-4F17-A4F3-0014A19DC53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Lucida Grande"/>
                <a:hlinkClick r:id="rId1"/>
              </a:rPr>
              <a:t>http://en.wikipedia.org/wiki/Kiowa_peopl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Lucida Grande"/>
                <a:hlinkClick r:id="rId2"/>
              </a:rPr>
              <a:t>http://www.texasindians.com/kiowa.htm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Lucida Grande"/>
                <a:hlinkClick r:id="rId3"/>
              </a:rPr>
              <a:t>http://www.bigorrin.org/kiowa_kids.htm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Lucida Grande"/>
                <a:hlinkClick r:id="rId4"/>
              </a:rPr>
              <a:t>http://www.google.com/searchkiowa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Lucida Grande"/>
              </a:rPr>
              <a:t>http://en.wikipedia.org/wiki/Native_American_Church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5"/>
          <a:stretch/>
        </p:blipFill>
        <p:spPr>
          <a:xfrm>
            <a:off x="6680160" y="-1440"/>
            <a:ext cx="2451240" cy="196992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6"/>
          <a:stretch/>
        </p:blipFill>
        <p:spPr>
          <a:xfrm>
            <a:off x="104760" y="-76320"/>
            <a:ext cx="2814480" cy="1841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laire Law</dc:creator>
  <dc:description/>
  <dc:language>en-US</dc:language>
  <cp:lastModifiedBy/>
  <cp:revision>0</cp:revision>
  <dc:subject/>
  <dc:title>The Kiowa People</dc:title>
</cp:coreProperties>
</file>